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8E66-6E2F-469E-83DE-C196CB5A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the rules of discussion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814-12F2-494C-AAEC-B77745A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242-30ED-4A99-AADA-AA4D8164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14A-DCE0-4562-B13A-6F0A973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4F8-2729-4040-8F14-57E2CEDB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64C-BE90-46D4-979A-747BE92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361-3DA1-4845-900B-5AAE1C6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3A8-A630-44FD-9B0D-BFF2CE7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903-4DB9-4129-917D-4A0115D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1A9-F888-4932-8771-D5A6CFE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21E-DB7E-44B7-8AA4-4E30972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133-399E-46DE-849F-FF3A72E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4CA-E6A0-4429-BB6A-21BEB18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0063-6932-4FDA-B59F-3502099F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etnamese Group Visit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romoting Discussion for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teractive Learning </a:t>
            </a:r>
            <a:br>
              <a:rPr sz="3600"/>
            </a:br>
            <a:br>
              <a:rPr sz="4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ril 21 &amp; 22, 2008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) Stimulat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ought-provoking question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 few minutes to write down their answers, then present them to the whole clas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students who might provide an unusual viewpoint; generate many perspectives on one issu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) Guide the discu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the opportunity to speak; not always the same stud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students’ ideas &amp; ask for com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positively about students’ contribu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ssues discussed &amp; highlight key poi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e discussion become a heated argu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 can you do if: </a:t>
            </a:r>
            <a:br>
              <a:rPr sz="2800"/>
            </a:br>
            <a:br>
              <a:rPr sz="28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whole group is silent &amp; unresponsiv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y these techniques to start discussions:</a:t>
            </a:r>
            <a:br>
              <a:rPr sz="28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yramid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uzz Groups: 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ll groups of 2, 3, or 4 students discuss a topic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or a short period (5-10 minutes)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What are some topics in your specific area that you could use for student discussions?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Come up with at least one question or problem for students to discuss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s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 sits in a circle &amp; turn passes round the circ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student in the group takes a turn speaking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person speaks once before anyone speaks a second time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alanced pattern of interaction makes it much more likely that individuals will speak agai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yramid or “snowballing”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Students will share many different opinions on a topic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by: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orking alone first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n in pair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ke a group of four or six peop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inally, the whole group disc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student interaction in lectur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’s role when using discussion</a:t>
            </a:r>
            <a:br>
              <a:rPr sz="28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techniques to introduce discussion into your lectures: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Buzz Group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Round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Pyramids or “Snowball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600"/>
            </a:br>
            <a:br>
              <a:rPr sz="28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y add discussions to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raditional lectures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200"/>
            </a:br>
            <a:br>
              <a:rPr sz="24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 add discussions to existing lectures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interaction improves students’ learning proces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- compare their knowledge with each other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may be more than one correct answer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jectives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ter today’s session, learners should be able to: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&amp; reflect upon how interaction might improve stud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 at least one way to introduce discussion into a traditional lecture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positive learning environment for instructors &amp;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structor’s role when using discussion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 Techniques for starting discussions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Set objectives for each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br>
              <a:rPr sz="2400"/>
            </a:b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You might want your students to be able to: </a:t>
            </a:r>
            <a:br>
              <a:rPr sz="27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velop their negotiation or communication ski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late their discussions to a cours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) Select appropriate forms of class discu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group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a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udents followed by class discussions &amp; summar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Set up room to encourage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ifferent room-settings affect student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ting in a circle allows everyone to see &amp; communicate with each other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 circulates among small groups to answer questions or clarify the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Create a climate to facilitate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topics &amp; introduce key term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fficient time for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ru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ill students take turns speaking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Clarify the appropriate ways to interrup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2:20:32Z</dcterms:created>
  <dc:creator>University of Calgary</dc:creator>
  <dc:description/>
  <dc:language>en-US</dc:language>
  <cp:lastModifiedBy>University of Calgary</cp:lastModifiedBy>
  <dcterms:modified xsi:type="dcterms:W3CDTF">2008-04-21T18:07:45Z</dcterms:modified>
  <cp:revision>479</cp:revision>
  <dc:subject/>
  <dc:title>Large Classes</dc:title>
</cp:coreProperties>
</file>